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174-98E2-4B90-AB8E-8E528E6F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BE3-E5C0-4CE6-8FA6-359E6363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46661-AC82-4070-A59E-24D2E966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87783-2477-4B5C-92A8-7B3D7019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888A8-4C37-4329-9C73-2F371D65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6BB90-2DBF-4589-A483-967F508A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0D93A-0922-4A30-8F9A-5744B9F7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824A6-AE1B-4498-8CF5-67C2891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58ECF-670F-4265-A092-F598F826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712C2-BBDE-4398-8000-176F0FB9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09DA2-7922-47CD-909C-967257F0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EF32B-6AE8-43E6-91DB-CC83B27E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347-3B1F-4322-9BCA-7B3EA3C8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D00F8-5670-4B3E-A543-DDB40905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9AE43-C89B-4AB3-934F-F1D8D5B9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8181E-2CEE-4970-9B79-11409B7E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96884-DB7F-4494-A282-694D00E2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63864-E7CB-4F2E-8D76-CDE5971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65161-B081-4078-B390-5E48DC6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7C711-E77D-4EE6-BA77-90A1C38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90F83-9768-48E2-964B-2231E91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D6FB5-D36F-457F-89F0-3F86379F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3EEB5-E877-4A6F-ABF8-17A15CB1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F15-50FC-4DB3-AF84-18B730F0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02D00-F376-4730-80E1-B8B6763E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DD963-A9CE-47AD-9134-927B87C1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59420-78DB-46F3-B7DD-E63DA0C9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EB0C-FB03-493D-BB55-4FB65059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F63AF-315A-4550-ACB3-8114CBFC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557E4-0B56-4546-B091-7228150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49E62-DD71-4672-AB57-7342C2CB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B7B4-2F5B-4929-9DDD-6E91132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3AD9C-C813-4171-BD0B-E9C2708A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3E3DC-AB07-4964-A236-38D7236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FE1D-C074-46AE-974A-42096608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557CE-6DB5-4DAD-BF66-51060145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FD200-6AE6-4951-8238-5B564521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7AEEF-280D-47C9-BC62-8694B15C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53B83-506E-4B81-A593-C3BE7942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CF059-E9BA-4F26-9BAC-F9CC5CAF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A4AEE-BB8A-4A7E-8E52-81E38E8B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5E2AB-DBE5-49E8-AA14-256A4A39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83991-F4E6-4A82-89E9-AFDE08F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69C8B-FD45-48FC-A4D7-72596E18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4D018-B389-43BF-9F12-2821A3EB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31CD-EF3F-47CD-B683-0E4C992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CB97F-0BE0-4ABF-81AE-7D000D0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EBE5E-3480-4C1B-A6E1-9CCFFCFB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FB97E-8A2A-46B8-8FF7-DB39C917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E4A20-28BC-4750-9A0E-22235FE2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417E8-13DD-4E9C-A01F-E6825EA8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5C3FF-B014-432F-A551-D9DF9FC5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5761E-C202-401B-BA68-6EE3F861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5348A-5944-4ADF-BD89-DF378C76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ABED7-D3DD-4BFE-AAA2-DD2E7189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EBCC9-00D6-4CE3-A017-CF825BFC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971B-F253-427C-99BF-5920C40C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EA54C-AC34-47B5-8049-127F21AE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99FAD-66F5-41FE-8C8A-F24DFA4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708F0-4306-414F-B068-2CF1AAA0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5162C-33B8-4CD1-BA69-95FC881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F1B08-69D4-4119-9137-9B45C25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430EF-B8E1-4501-95B3-D5DEE413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C930A-3532-41DC-B0B0-DD698B94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04F2E-0AA5-4946-A822-883588E2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F8E65-A098-47F4-BFD4-43F2649F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3F180-A9A7-480A-8140-7620E303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105-577E-4F6B-866B-D50D099C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D1D25-C356-4FB1-90C3-A99EFB5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4E1F5-314E-4DD8-BE65-62B17010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F54EC-556E-4B86-86B1-B99CA45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677CF-CA27-44C6-9074-2940E20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785E7-790D-4988-A5A7-BD6CA576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CFBA7-BB97-4CBF-BCB5-170950B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5B7F1-0270-4079-8501-B769750C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A0353-E842-42B9-8109-17D720B6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6B75D-3D4A-473D-94CB-8FEE1D4C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831AC-E5CA-4608-AFA3-70083F92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7C0B-0D89-49AF-ABCF-2ADDED9E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ECFC5-5265-4CFB-A81A-EF236F4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0D4BF-6CAE-4BEB-997F-29E4489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2DDBC-E5A0-4572-857B-566E0AE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AF5DE-0EC0-4E10-8F5E-E955A94F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FD859-234F-42B4-8DF7-08C288A5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C0744-58F3-4265-B8D2-91C9AA6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E8B6E-934D-4221-98E0-9A3BBF82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5BB32-E9B7-47D6-A7FD-C0CACA5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76AC8-1751-459B-9306-D610F125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F578D-B49D-4B0F-9A0B-4D05E62B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1F14-96A3-4801-9807-1CF2D2CA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A32E6-8D6F-4AFD-9011-C7AC830D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5ECE7-B808-46AE-86BE-CCDBAC39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2D43F-0BF4-48DE-B5F4-E79BD920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4853E-E7F6-4103-AD23-8111BA0F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5FE3C-B09C-4202-9383-89E051F8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98D38-2629-4952-9E3A-54ADD57B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8550C-A775-4505-875D-76248E68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A3F345-B250-492A-B3EE-E36BBF81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A209A-198A-4F83-A105-E9E4DCA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76909-8BCD-4A37-A662-4BA03A89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721D-2891-4E90-AEC8-CD93F99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CC886-E5A4-4B20-B6D1-23DAA58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781D71-BFAC-48F0-B44E-E490308B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EA23E-6221-460A-B3D6-BEF19377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040E8-8524-4CA4-9DBC-F98CA279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D29830-4C96-4BAD-8C1C-255277F7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1E3EB-E462-4AE4-9D7D-0A6FC3E7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E3FFA-72A8-49DA-B7F2-E776FDB5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B2E0E-77F1-4DBC-98E2-6393A5D8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05D90-9A7A-4444-8DE8-496E8C9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D9A7B-C82A-4082-9663-0C38628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2AF-27D9-4403-9EC7-08BE04D2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76BA-A71D-4AB5-BC49-CF24ABD5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06891-9322-4557-9A49-B890F41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FB2DF-869B-4C9B-BB85-BEB4F2C2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903AA-7259-4B20-AF53-BD534CA9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B3696-E466-40AF-8B9E-831C1B03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EB6E4-EC68-482D-85D8-A217751E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73CAA-9013-4F0A-AE9F-66878EDC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08E12-89C7-444B-AE2E-D82E054F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B0108-2ECC-4647-8616-DDF2166B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D431B-3B00-4043-BECE-EF892FA8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BB654-8825-40C8-BE17-C2F805F3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3D8D-3EE6-4975-A80D-EF9EE18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28948-27F2-4067-AEF1-22F0F272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DC21D-D7FE-4D73-8049-6E05E6C7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3E0AC4-ACEA-4C98-BA3C-FCA3C6D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14E7E-414A-4600-9D91-E9032E84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8F132-00FE-46BB-9866-0EEE12FB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CA5AD4-D964-4890-9C84-EE28774C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B83869-06A3-4203-A2FF-07AB5E55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94256-0E21-4AFD-AB22-6D193204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95E5B-FFAE-4ECD-B30A-6C55A614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91A57-2541-4BB6-AFA4-67BC7506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F7D6-547D-42F3-99A9-94A2EA5D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E7488-A3EB-4410-8F33-4157B7F7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DB776-7117-47CA-BCE6-577EC61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3F8AC-98B3-4275-845A-D4FE13EB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CEF13-FD38-48FF-96F3-6EC44C6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F3857-0014-4014-9869-ABACEBE4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BC89D6-7B31-41C1-9AE1-92D7E58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BE90B-3BCE-468B-9B88-40187722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726AC-09F3-41CC-B93F-DEE39D7F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A19D7-B543-4B5D-9485-5AF29B40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BBB20-AC7D-45C8-85C9-C9DDB434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85E7-322B-4E00-BCCE-C50D76D4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A1F22-4840-4CA3-B008-F08046B0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B382B-360D-436E-A095-43B41BB5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6093C-E5D6-42DC-B8C3-8E884C26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A6F3F-E4CF-49EF-A50B-C400E750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B26FD4-C533-4838-9F19-41364AF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10847-D18B-4DD4-83BB-BC8BA2B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0CD56-3B7E-4E6D-A601-FB87A90B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71F6E-6081-4682-B31A-0F41686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79742-43AD-4175-8C49-C3E0B065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9FCCA-4756-4648-A72C-2E36F28D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0825-FB18-4811-8B10-E39AB721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32363-1290-4221-9343-B2DB644E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2D306-619B-47F9-984F-555B0B59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E00FF-5C07-489F-B6DC-8E63F668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5C232-D790-486B-84F3-D16AA37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42332-7586-4AE9-980C-DC8A30B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45297-8E12-4D1D-BE5D-43EC2CF7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93B4DF-44B1-465C-808F-214D3B5D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89E2B-5767-431E-80F2-794567E8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38EB3-E03F-4395-9535-C4BAD382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D1468-3B83-4672-BFE8-4A23CA3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164E-0D33-4B7B-AE58-7480C14E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DC297-17BC-42C6-B89E-16963C5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183667-85D7-4D3B-B223-2D085DCE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55CD8-60A1-4305-B75A-81F34427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0350-ED50-40BA-8028-5BCBD12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C0C6-4614-45E0-842A-647C99B3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DB9F-C0CD-4CA4-9A23-8047AC9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32B2-49C1-4F19-AAB0-29F13F68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0EA-3F04-4F08-8258-DB7332F0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D74D-9CD4-4DE7-BA64-E28EC71A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F3A8-5C00-4143-8DE4-DDE4950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D93F-08A7-4EAB-9D7F-49C3915B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25BE-C57C-4643-96D8-72266E39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603E-006B-4E2E-A083-9699713A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3494-1902-4463-B3AD-711F9CC6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D5A7-E567-4F13-949B-1D4179FE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8E6E-B90C-4EA8-A9BD-A584B784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CFF4-8FFD-4CAA-AACC-AEE69F6E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077E-A745-4683-9C82-ED13099A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7D2-0BD1-4D8C-8D6B-C36B5075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59498-0888-4C8E-BF5D-574F23C6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7C74-9D4F-4D59-9EA3-909A83C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81A4-CEAC-49A1-8333-9B71FE5E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ECF5-C727-491A-A0C4-21EC7D4F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FB1A-C103-4518-A6A2-EF98159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7D7F2-942D-4E01-8D19-D5037BEC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5CF3-C955-4ECE-8072-991A7629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97EFA-DB6A-4C7D-BCA1-4E7C10B7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0425-B610-4E54-9FA6-C547271F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519E6-C2AD-417F-AA92-24C1CAFE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EB7-FECC-4CAC-8271-51A56D7C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41451-6DBF-410E-92AF-3F61D84F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5461-1EA4-4272-8DCE-EAF7B17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A3965-7D44-473C-9747-546CFEF8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A2B52-83A3-490D-89F6-BBBE196A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7BCB3-2834-40F8-A464-967A660C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D59C8-68C9-44F6-B73C-3D44B35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18FB-8F6C-4E0E-BC17-BF40481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B3EAB-C10D-45B0-8CBB-25EDD91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2BE8-7B16-476E-AC93-D1CA055E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B447-AC83-4C64-B4B5-83D0CE0C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125-C9CB-4FEF-B028-7579125C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C1A6-70B8-4539-8209-B959E312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8F9E-41F4-4757-8164-8825B0BB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7902-177B-485B-AABB-028F10E8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1D898-2512-445C-B63C-A4F82ACC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A333A-6AB4-4991-82A9-C82C13AE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AC326-59BD-428D-9632-C70222BC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0A16B-FE77-45DB-8B85-D1E5401B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3766-D7C7-4F09-BFBA-C9EDE61B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BB4E-7312-4BD3-977E-2AF2E72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4A39-D29C-4746-B843-7FA6BA81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413-BAC0-4F34-A962-292F204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DBFBC-FF3D-42D4-B0BE-A867FAB4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587B-7CD9-47C7-BC86-1DDF59D9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1DDF5-3378-4730-B25F-BEFB410D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B8E48-B16F-44B5-82C6-116A449C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0CC6E-1C4A-4FEE-8E23-ED4A5D64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6D25C-AB36-4046-AFDC-B752F405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99F9A-57E9-4A80-93A0-44ECD070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8C47-F40E-445C-96BA-21ED1F6D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F37D9-59EF-44F0-936D-CC63BBEF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0EB4D-4223-4BEF-8983-D5D33ED3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A3C-D631-40CE-A11B-7F06B209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B7F8-9A8D-4605-90C8-362FB25A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7AEC9-E671-43EC-AB35-149DAB66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15650-74D6-45B9-B190-79299853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0052-BBBE-4F04-B346-1B35D45C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EFBAC-E39C-45A9-8789-F7A20371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C3B00-8326-4805-893E-3FBCFAAE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3D578-4E2E-432B-8600-90752FD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4C69C-FE49-4AD1-88A5-5C9138C7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9854B-C1B3-4551-8DA2-301370C8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91739-01F2-4F72-A796-FEDABCBC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CE2-2115-4772-80A8-07A82184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8671-0800-40E2-A65E-E18EE030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A8E1D-6F6A-4631-8174-1219363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9E633-65EE-4A65-93F2-AC024AE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11EE-2FC4-43C4-9110-597F9368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9E338-38D3-4A18-83B3-FB6C3A6C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BB7C2-4EF6-4AC0-BDB9-648860D1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56C9C-53E0-4408-BFFF-D5291599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D236A-2A02-4415-A1E7-A8C6C030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F4F4C-CAB9-4AE4-9DA6-261BA312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61093-29E7-431C-82E8-DC373409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D7CA-8D17-42D9-BC61-DECCCF595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EF9C-0FA3-4EC8-A208-2069B56847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6213-AFD3-42C1-BE9C-DB67EA3BA5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9ED-7599-4907-88FA-D59A8241E8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A51-EA96-4AB7-985F-52C8AC78FC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5E22-BB99-40F2-B556-9ADC40FF4C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7FCA-0DF2-4B46-A183-93F6B2DDD9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58DA-D272-4B7D-920D-076C17CC3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F99A-334F-496A-897C-473464A83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9618-CDA0-49D1-A913-B03486AF9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8E8D-9D94-4F75-BC14-930FDC0315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4E32-E993-434B-9459-3BDEAB8BE0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9373-7CBD-4E4C-80BE-D94EDC5373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053-589B-43A9-A061-A43453C86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F66F-55C2-4A70-BE0E-B53C0A954D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203F-088D-48B6-940E-FDDA424CD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9BD2-2FF4-444A-83AA-BE4A10E796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1FC7-88AB-423D-9AF7-E8E3D3D56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8B5-1E7B-40F3-8133-2FF4B7817B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291C-581D-4EA8-B920-DC46B63423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6DC1-F6BA-4ED2-B995-435229C11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91CE-40ED-448F-8AA7-72C0FCF2C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6396-63F5-4862-B0E0-2C286B125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3F1C-FB70-49B3-B6E8-6DA9FA8F62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689D-94C4-47BB-899A-C7EBF96049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FEE1-4C2A-404E-B9AF-FD93302A4D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6218-8511-465D-9AEF-A4E03DB0B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97B-5298-4667-85F9-4447AB330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17A0-9A30-487D-9CA5-41DE705363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BD6-B630-4768-B680-3B16A2478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3935-FACA-432D-A592-8EB4DC76F2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6D71-7054-45EE-AE0E-1AF2C5C91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9D0-0ABC-49FC-B161-149172C08B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2773-A63A-40AE-841A-7F9D0918DF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1265-7DF4-4706-9D80-7847AB77A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F1C8-7809-4D08-B151-E32032458E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6B1A-C369-4BF3-BED5-B6EB29A4D8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3660-EB35-4EB3-990B-713EF2A17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8CBD-9350-4767-8E80-8D5417BF4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BDED-0680-45A1-816D-90CAF4C4D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71720" y="3000240"/>
            <a:ext cx="70005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00040" y="1019160"/>
            <a:ext cx="8124840" cy="5267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486080" y="27813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476360" y="465300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476360" y="558972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85720" y="838080"/>
            <a:ext cx="7972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905040" y="1352520"/>
            <a:ext cx="7333920" cy="4152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3830760" y="1741320"/>
            <a:ext cx="1245960" cy="438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6084720" y="1741320"/>
            <a:ext cx="1582920" cy="438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4"/>
          <a:stretch/>
        </p:blipFill>
        <p:spPr>
          <a:xfrm>
            <a:off x="3708360" y="2805120"/>
            <a:ext cx="124452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5"/>
          <a:stretch/>
        </p:blipFill>
        <p:spPr>
          <a:xfrm>
            <a:off x="5961240" y="2805120"/>
            <a:ext cx="1584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6"/>
          <a:stretch/>
        </p:blipFill>
        <p:spPr>
          <a:xfrm>
            <a:off x="3860640" y="3875040"/>
            <a:ext cx="124488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7"/>
          <a:stretch/>
        </p:blipFill>
        <p:spPr>
          <a:xfrm>
            <a:off x="6113520" y="3875040"/>
            <a:ext cx="158436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8"/>
          <a:stretch/>
        </p:blipFill>
        <p:spPr>
          <a:xfrm>
            <a:off x="3708360" y="4935600"/>
            <a:ext cx="124452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9"/>
          <a:stretch/>
        </p:blipFill>
        <p:spPr>
          <a:xfrm>
            <a:off x="5961240" y="4935600"/>
            <a:ext cx="1584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95360" y="1004760"/>
            <a:ext cx="81532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057800" cy="1914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2"/>
          <a:stretch/>
        </p:blipFill>
        <p:spPr>
          <a:xfrm>
            <a:off x="928800" y="3286080"/>
            <a:ext cx="73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3"/>
          <a:stretch/>
        </p:blipFill>
        <p:spPr>
          <a:xfrm>
            <a:off x="1444680" y="10461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4"/>
          <a:stretch/>
        </p:blipFill>
        <p:spPr>
          <a:xfrm>
            <a:off x="1403280" y="1766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5"/>
          <a:stretch/>
        </p:blipFill>
        <p:spPr>
          <a:xfrm>
            <a:off x="1403280" y="33512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6"/>
          <a:stretch/>
        </p:blipFill>
        <p:spPr>
          <a:xfrm>
            <a:off x="1332000" y="47973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566640" y="785880"/>
            <a:ext cx="8010720" cy="59245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7236000" y="2390760"/>
            <a:ext cx="129672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3"/>
          <a:stretch/>
        </p:blipFill>
        <p:spPr>
          <a:xfrm>
            <a:off x="1763640" y="316224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4"/>
          <a:stretch/>
        </p:blipFill>
        <p:spPr>
          <a:xfrm>
            <a:off x="7236000" y="3913200"/>
            <a:ext cx="129672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5"/>
          <a:stretch/>
        </p:blipFill>
        <p:spPr>
          <a:xfrm>
            <a:off x="1763640" y="468468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6"/>
          <a:stretch/>
        </p:blipFill>
        <p:spPr>
          <a:xfrm>
            <a:off x="1916280" y="6207120"/>
            <a:ext cx="1295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928800" y="750960"/>
            <a:ext cx="7505640" cy="6084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2"/>
          <a:stretch/>
        </p:blipFill>
        <p:spPr>
          <a:xfrm>
            <a:off x="6300720" y="712800"/>
            <a:ext cx="1295640" cy="3668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3"/>
          <a:stretch/>
        </p:blipFill>
        <p:spPr>
          <a:xfrm>
            <a:off x="3492360" y="203040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4"/>
          <a:stretch/>
        </p:blipFill>
        <p:spPr>
          <a:xfrm>
            <a:off x="4308480" y="3429000"/>
            <a:ext cx="2076480" cy="923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6" descr=""/>
          <p:cNvPicPr/>
          <p:nvPr/>
        </p:nvPicPr>
        <p:blipFill>
          <a:blip r:embed="rId5"/>
          <a:stretch/>
        </p:blipFill>
        <p:spPr>
          <a:xfrm>
            <a:off x="2500200" y="4357800"/>
            <a:ext cx="2619360" cy="8474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6" descr=""/>
          <p:cNvPicPr/>
          <p:nvPr/>
        </p:nvPicPr>
        <p:blipFill>
          <a:blip r:embed="rId6"/>
          <a:stretch/>
        </p:blipFill>
        <p:spPr>
          <a:xfrm>
            <a:off x="3429000" y="5703840"/>
            <a:ext cx="26193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Picture 3" descr=""/>
          <p:cNvPicPr/>
          <p:nvPr/>
        </p:nvPicPr>
        <p:blipFill>
          <a:blip r:embed="rId1"/>
          <a:stretch/>
        </p:blipFill>
        <p:spPr>
          <a:xfrm>
            <a:off x="790560" y="995400"/>
            <a:ext cx="7562880" cy="5505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2"/>
          <a:stretch/>
        </p:blipFill>
        <p:spPr>
          <a:xfrm>
            <a:off x="4143240" y="1428840"/>
            <a:ext cx="1686240" cy="780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3"/>
          <a:stretch/>
        </p:blipFill>
        <p:spPr>
          <a:xfrm>
            <a:off x="1428840" y="3286080"/>
            <a:ext cx="2752560" cy="8380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4"/>
          <a:stretch/>
        </p:blipFill>
        <p:spPr>
          <a:xfrm>
            <a:off x="3643200" y="4857840"/>
            <a:ext cx="2467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7:5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